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195-BD6A-412D-840F-C0917A03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B146-4912-4912-ABAB-576DAEAA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932-70AC-404B-8D7E-E9ECE796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693-59B8-4D66-970E-A76C436F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D8C0-2B12-4621-8D6B-411CB7FB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4D2-EA04-425C-8E5D-21B39517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405A-6364-431D-9A4F-2B1F237A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373-0F56-442C-AE9C-D696B748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BF4-032B-4E55-9B43-AD13A3E0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293-0C56-4E33-9435-64EC5F5E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BBD-AD49-4647-82AF-193A1F6E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4ED-1B0D-477A-8C31-FEFBC0F7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0520-D9C8-41A5-8A90-18A06EC71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 Patt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8718840" cy="1901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144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8288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inding Number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8899560" cy="507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6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80240" y="3733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4419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4419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0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45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3880" y="22860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384960" cy="6443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62320" y="21337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1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48006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27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2622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57913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80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20:09:47Z</dcterms:created>
  <dc:creator>Susannah Graham</dc:creator>
  <dc:description/>
  <dc:language>en-US</dc:language>
  <cp:lastModifiedBy>Graham</cp:lastModifiedBy>
  <dcterms:modified xsi:type="dcterms:W3CDTF">2011-08-18T12:58:21Z</dcterms:modified>
  <cp:revision>4</cp:revision>
  <dc:subject/>
  <dc:title>Lesson 1.8 Multiplying and Dividing Integers</dc:title>
</cp:coreProperties>
</file>